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9704-8512-4B62-96EF-99E76C2DF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54E0-AC40-4F32-93C5-27D12D52A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1F8C-FDAC-4338-95A9-27FD9BFE6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37BD-C87D-483C-B55C-7B16BF7CC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8176-6CE9-4035-923B-49839727A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F840-996C-46E9-959C-59A2B15C6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FAC1-4443-4A64-858B-0E0FA5902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6DBC-6CDD-4331-A9D2-64DFE3D4E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A41F-7525-4C62-B93C-F3CF04E65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5283-D942-4194-8030-8DBDDA644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D4B2-9509-4F4F-8034-BDCC9E563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AEE0-0B4D-4C35-A5AD-33B13C5CA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24B7-643F-431F-9FE9-E4DE52EA7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CC66-E29B-4050-92B3-F786FEED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5A0E-47DB-4303-9058-37CB188A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EFF-B0B0-4F38-B015-68794CC5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59E-DC78-41D7-BBFB-6B08B7B8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3B99-6DB0-4451-8E81-A60AE3D3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1EF7-2C5C-4A01-9B66-99321D2B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44BE-8B99-469F-95ED-5EB9E3FD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328B-B39A-45E6-BFE7-D48679F8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2372-D062-4C85-A86C-C786BE7A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CB4E-2C5F-43C6-9178-E5037E49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665A-62CB-481C-A0D8-3CB033D2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03A-91C6-4963-A87F-F9476569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EA34-5256-4AF8-B07B-F3659A52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7BBA-6272-4FD6-89C1-13B34029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55E1-DE82-436C-A437-6E407079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A334-8D66-4124-A4EE-8CAA9B08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6476-FACB-42A1-87EC-C08EF1EB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E91-6929-46E2-95A5-A09FEB71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21F5-6C58-4E88-BB7B-ACEE8F0D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30EA-822D-4779-A4BF-1B6C3403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030C-8CD5-41C4-80EB-643C341F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579B-D234-4562-AEAC-5420051F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802-4DB4-46FE-9164-1084DE67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C4DB-22EA-4B14-B15A-7DB3C0CF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11E0-7FDF-4962-A816-44D9E3CB91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18A2-B9F5-4443-8004-2B1B6DE269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7art-screensavers.com/screenshots/wild-animals/deer.jpg&amp;imgrefurl=http://www.7art-screensavers.com/wa.shtml&amp;h=600&amp;w=800&amp;sz=122&amp;tbnid=4adgBM_G3r8J:&amp;tbnh=106&amp;tbnw=141&amp;start=2&amp;prev=/images%3Fq%3Danimals%26hl%3Den%26lr%3D%26sa%3D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Biological Productivity and Energy Flow</a:t>
            </a:r>
            <a:br>
              <a:rPr sz="4400"/>
            </a:b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Enough Food be Produced for Africa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can we grow??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be our Carry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ergy efficienc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efficient are orgs at using energ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ver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le of thumb 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Picture 5" descr="heatflowimage"/>
          <p:cNvPicPr/>
          <p:nvPr/>
        </p:nvPicPr>
        <p:blipFill>
          <a:blip r:embed="rId1"/>
          <a:stretch/>
        </p:blipFill>
        <p:spPr>
          <a:xfrm>
            <a:off x="685800" y="304920"/>
            <a:ext cx="70866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8" name="Picture 5" descr="trophic_levels_individuals"/>
          <p:cNvPicPr/>
          <p:nvPr/>
        </p:nvPicPr>
        <p:blipFill>
          <a:blip r:embed="rId1"/>
          <a:stretch/>
        </p:blipFill>
        <p:spPr>
          <a:xfrm>
            <a:off x="304920" y="228600"/>
            <a:ext cx="4419360" cy="6248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Figure 1.4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4648320" y="6019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ss Pyra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228240"/>
            <a:ext cx="62485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ota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t of organic matter in an ecosystem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ncreases though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Towering Redwood Tree"/>
          <p:cNvPicPr/>
          <p:nvPr/>
        </p:nvPicPr>
        <p:blipFill>
          <a:blip r:embed="rId1"/>
          <a:stretch/>
        </p:blipFill>
        <p:spPr>
          <a:xfrm>
            <a:off x="5972040" y="1719360"/>
            <a:ext cx="2333880" cy="2128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de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72240" y="4392720"/>
            <a:ext cx="2685960" cy="2019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Dead Coyote"/>
          <p:cNvPicPr/>
          <p:nvPr/>
        </p:nvPicPr>
        <p:blipFill>
          <a:blip r:embed="rId4"/>
          <a:stretch/>
        </p:blipFill>
        <p:spPr>
          <a:xfrm>
            <a:off x="685800" y="3429000"/>
            <a:ext cx="4229280" cy="28954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4"/>
          <p:cNvSpPr/>
          <p:nvPr/>
        </p:nvSpPr>
        <p:spPr>
          <a:xfrm>
            <a:off x="685800" y="64771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, animals and dead are all bio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omass is measured 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ncreases through grow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avalanche%20scar%20spruce%20"/>
          <p:cNvPicPr/>
          <p:nvPr/>
        </p:nvPicPr>
        <p:blipFill>
          <a:blip r:embed="rId1"/>
          <a:stretch/>
        </p:blipFill>
        <p:spPr>
          <a:xfrm>
            <a:off x="4753080" y="1719360"/>
            <a:ext cx="382752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emoautotroph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teria that us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organic compounds (like sulfu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to make their own food and t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Endeavour Hot Vent Photograph"/>
          <p:cNvPicPr/>
          <p:nvPr/>
        </p:nvPicPr>
        <p:blipFill>
          <a:blip r:embed="rId1"/>
          <a:stretch/>
        </p:blipFill>
        <p:spPr>
          <a:xfrm>
            <a:off x="533520" y="3809880"/>
            <a:ext cx="4038480" cy="2743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bacterial mats near methane seep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5029200" y="51055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ite-ish area is a bacterial m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eeding on methane from beneath the ocean flo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1143000" y="64911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thermal v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ergy flo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systems are all open to energy f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in          food chain           heat relea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not used is lost (as heat)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tor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2362320" y="2438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4876920" y="2438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duke4"/>
          <p:cNvPicPr/>
          <p:nvPr/>
        </p:nvPicPr>
        <p:blipFill>
          <a:blip r:embed="rId1"/>
          <a:stretch/>
        </p:blipFill>
        <p:spPr>
          <a:xfrm>
            <a:off x="6019920" y="3505320"/>
            <a:ext cx="2895480" cy="299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catbig1"/>
          <p:cNvPicPr/>
          <p:nvPr/>
        </p:nvPicPr>
        <p:blipFill>
          <a:blip r:embed="rId2"/>
          <a:stretch/>
        </p:blipFill>
        <p:spPr>
          <a:xfrm>
            <a:off x="304920" y="3505320"/>
            <a:ext cx="2743200" cy="2895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fat%20man"/>
          <p:cNvPicPr/>
          <p:nvPr/>
        </p:nvPicPr>
        <p:blipFill>
          <a:blip r:embed="rId3"/>
          <a:stretch/>
        </p:blipFill>
        <p:spPr>
          <a:xfrm>
            <a:off x="3276720" y="3429000"/>
            <a:ext cx="2514600" cy="2971800"/>
          </a:xfrm>
          <a:prstGeom prst="rect">
            <a:avLst/>
          </a:prstGeom>
          <a:ln w="0">
            <a:noFill/>
          </a:ln>
        </p:spPr>
      </p:pic>
      <p:sp>
        <p:nvSpPr>
          <p:cNvPr id="180" name="Line 17"/>
          <p:cNvSpPr/>
          <p:nvPr/>
        </p:nvSpPr>
        <p:spPr>
          <a:xfrm flipH="1">
            <a:off x="5257800" y="3200400"/>
            <a:ext cx="763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5943600" y="3200400"/>
            <a:ext cx="9907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9"/>
          <p:cNvSpPr/>
          <p:nvPr/>
        </p:nvSpPr>
        <p:spPr>
          <a:xfrm flipH="1">
            <a:off x="2666880" y="3200400"/>
            <a:ext cx="236232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533520" y="4114800"/>
            <a:ext cx="7924680" cy="1676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inet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tential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ergy can move back and forth between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w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ropy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measure of disorder, wasted energy - becomes more random, can be sound or light but is mostly heat, everything always moves towards entrop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The laws of thermodynam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1st Law – conservation of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2nd Law- entropy incr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energy moves to a less organized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living cells are holding off the forces of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ropy b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hanneling energ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609120"/>
            <a:ext cx="40388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flow i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e wa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Picture: Whooping crane foodweb"/>
          <p:cNvPicPr/>
          <p:nvPr/>
        </p:nvPicPr>
        <p:blipFill>
          <a:blip r:embed="rId1"/>
          <a:stretch/>
        </p:blipFill>
        <p:spPr>
          <a:xfrm>
            <a:off x="3124080" y="762120"/>
            <a:ext cx="6019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4:15:28Z</dcterms:created>
  <dc:creator>tosborne</dc:creator>
  <dc:description/>
  <dc:language>en-US</dc:language>
  <cp:lastModifiedBy>infosys</cp:lastModifiedBy>
  <dcterms:modified xsi:type="dcterms:W3CDTF">2013-10-22T22:03:57Z</dcterms:modified>
  <cp:revision>19</cp:revision>
  <dc:subject/>
  <dc:title>Chapter 8 Biological Productivity and Energy Flow</dc:title>
</cp:coreProperties>
</file>